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097680"/>
            <a:ext cx="9144000" cy="76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7ff"/>
            </a:gs>
            <a:gs pos="100000">
              <a:srgbClr val="caca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35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99"/>
                </a:solidFill>
                <a:latin typeface="Arial"/>
              </a:rPr>
              <a:t>Overview of Ethernet Audio 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047240" y="3886200"/>
            <a:ext cx="70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99"/>
                </a:solidFill>
                <a:latin typeface="Arial"/>
              </a:rPr>
              <a:t>Attila Karamustafaoglu, 27.9.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1273320"/>
            <a:ext cx="852948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Resulting topologies for Cobra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1581120"/>
            <a:ext cx="62856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7040" y="1582560"/>
            <a:ext cx="62856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79680" y="1584360"/>
            <a:ext cx="62856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62120" y="3529080"/>
            <a:ext cx="62856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44760" y="3530520"/>
            <a:ext cx="62856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92240" y="2698920"/>
            <a:ext cx="71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14560" y="2028960"/>
            <a:ext cx="1038240" cy="1495440"/>
          </a:xfrm>
          <a:custGeom>
            <a:avLst/>
            <a:gdLst/>
            <a:ahLst/>
            <a:rect l="l" t="t" r="r" b="b"/>
            <a:pathLst>
              <a:path w="708" h="924">
                <a:moveTo>
                  <a:pt x="396" y="924"/>
                </a:moveTo>
                <a:lnTo>
                  <a:pt x="708" y="54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00360" y="2619360"/>
            <a:ext cx="1342800" cy="44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47880" y="2039760"/>
            <a:ext cx="468360" cy="1474920"/>
          </a:xfrm>
          <a:custGeom>
            <a:avLst/>
            <a:gdLst/>
            <a:ahLst/>
            <a:rect l="l" t="t" r="r" b="b"/>
            <a:pathLst>
              <a:path w="295" h="929">
                <a:moveTo>
                  <a:pt x="0" y="929"/>
                </a:moveTo>
                <a:lnTo>
                  <a:pt x="295" y="551"/>
                </a:lnTo>
                <a:lnTo>
                  <a:pt x="13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098080" y="2870280"/>
            <a:ext cx="323640" cy="646200"/>
          </a:xfrm>
          <a:custGeom>
            <a:avLst/>
            <a:gdLst/>
            <a:ahLst/>
            <a:rect l="l" t="t" r="r" b="b"/>
            <a:pathLst>
              <a:path w="282" h="551">
                <a:moveTo>
                  <a:pt x="280" y="544"/>
                </a:moveTo>
                <a:lnTo>
                  <a:pt x="282" y="55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28760" y="2038320"/>
            <a:ext cx="1092240" cy="822240"/>
          </a:xfrm>
          <a:custGeom>
            <a:avLst/>
            <a:gdLst/>
            <a:ahLst/>
            <a:rect l="l" t="t" r="r" b="b"/>
            <a:pathLst>
              <a:path w="688" h="518">
                <a:moveTo>
                  <a:pt x="688" y="513"/>
                </a:moveTo>
                <a:lnTo>
                  <a:pt x="687" y="51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00240" y="2043000"/>
            <a:ext cx="318960" cy="809640"/>
          </a:xfrm>
          <a:custGeom>
            <a:avLst/>
            <a:gdLst/>
            <a:ahLst/>
            <a:rect l="l" t="t" r="r" b="b"/>
            <a:pathLst>
              <a:path w="201" h="510">
                <a:moveTo>
                  <a:pt x="201" y="510"/>
                </a:moveTo>
                <a:lnTo>
                  <a:pt x="198" y="51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14520" y="2033640"/>
            <a:ext cx="200160" cy="809640"/>
          </a:xfrm>
          <a:custGeom>
            <a:avLst/>
            <a:gdLst/>
            <a:ahLst/>
            <a:rect l="l" t="t" r="r" b="b"/>
            <a:pathLst>
              <a:path w="126" h="510">
                <a:moveTo>
                  <a:pt x="0" y="510"/>
                </a:moveTo>
                <a:lnTo>
                  <a:pt x="9" y="504"/>
                </a:lnTo>
                <a:lnTo>
                  <a:pt x="9" y="504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19200" y="2852640"/>
            <a:ext cx="123840" cy="662040"/>
          </a:xfrm>
          <a:custGeom>
            <a:avLst/>
            <a:gdLst/>
            <a:ahLst/>
            <a:rect l="l" t="t" r="r" b="b"/>
            <a:pathLst>
              <a:path w="78" h="417">
                <a:moveTo>
                  <a:pt x="0" y="9"/>
                </a:moveTo>
                <a:lnTo>
                  <a:pt x="3" y="6"/>
                </a:lnTo>
                <a:lnTo>
                  <a:pt x="6" y="0"/>
                </a:lnTo>
                <a:lnTo>
                  <a:pt x="78" y="417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66840" y="2895480"/>
            <a:ext cx="271440" cy="604800"/>
          </a:xfrm>
          <a:custGeom>
            <a:avLst/>
            <a:gdLst/>
            <a:ahLst/>
            <a:rect l="l" t="t" r="r" b="b"/>
            <a:pathLst>
              <a:path w="171" h="381">
                <a:moveTo>
                  <a:pt x="159" y="0"/>
                </a:moveTo>
                <a:lnTo>
                  <a:pt x="153" y="3"/>
                </a:lnTo>
                <a:lnTo>
                  <a:pt x="171" y="21"/>
                </a:lnTo>
                <a:lnTo>
                  <a:pt x="0" y="381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697120" y="2030400"/>
            <a:ext cx="347760" cy="1495440"/>
          </a:xfrm>
          <a:custGeom>
            <a:avLst/>
            <a:gdLst/>
            <a:ahLst/>
            <a:rect l="l" t="t" r="r" b="b"/>
            <a:pathLst>
              <a:path w="708" h="924">
                <a:moveTo>
                  <a:pt x="396" y="924"/>
                </a:moveTo>
                <a:lnTo>
                  <a:pt x="708" y="54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33440" y="2022480"/>
            <a:ext cx="581040" cy="730080"/>
          </a:xfrm>
          <a:custGeom>
            <a:avLst/>
            <a:gdLst/>
            <a:ahLst/>
            <a:rect l="l" t="t" r="r" b="b"/>
            <a:pathLst>
              <a:path w="366" h="460">
                <a:moveTo>
                  <a:pt x="366" y="7"/>
                </a:moveTo>
                <a:lnTo>
                  <a:pt x="210" y="4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38600" y="1932120"/>
            <a:ext cx="62856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142120" y="1273320"/>
            <a:ext cx="79092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145360" y="1774800"/>
            <a:ext cx="79056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45360" y="2806560"/>
            <a:ext cx="79056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85000" y="159696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1720" y="1839960"/>
            <a:ext cx="1343160" cy="44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291280" y="2066760"/>
            <a:ext cx="1603080" cy="43200"/>
          </a:xfrm>
          <a:custGeom>
            <a:avLst/>
            <a:gdLst/>
            <a:ahLst/>
            <a:rect l="l" t="t" r="r" b="b"/>
            <a:pathLst>
              <a:path w="282" h="551">
                <a:moveTo>
                  <a:pt x="280" y="544"/>
                </a:moveTo>
                <a:lnTo>
                  <a:pt x="282" y="55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40440" y="1440000"/>
            <a:ext cx="1190880" cy="609480"/>
          </a:xfrm>
          <a:custGeom>
            <a:avLst/>
            <a:gdLst/>
            <a:ahLst/>
            <a:rect l="l" t="t" r="r" b="b"/>
            <a:pathLst>
              <a:path w="126" h="510">
                <a:moveTo>
                  <a:pt x="0" y="510"/>
                </a:moveTo>
                <a:lnTo>
                  <a:pt x="9" y="504"/>
                </a:lnTo>
                <a:lnTo>
                  <a:pt x="9" y="504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946920" y="1955880"/>
            <a:ext cx="1190520" cy="90360"/>
          </a:xfrm>
          <a:custGeom>
            <a:avLst/>
            <a:gdLst/>
            <a:ahLst/>
            <a:rect l="l" t="t" r="r" b="b"/>
            <a:pathLst>
              <a:path w="126" h="510">
                <a:moveTo>
                  <a:pt x="0" y="510"/>
                </a:moveTo>
                <a:lnTo>
                  <a:pt x="9" y="504"/>
                </a:lnTo>
                <a:lnTo>
                  <a:pt x="9" y="504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945480" y="2048760"/>
            <a:ext cx="1190520" cy="947880"/>
          </a:xfrm>
          <a:custGeom>
            <a:avLst/>
            <a:gdLst/>
            <a:ahLst/>
            <a:rect l="l" t="t" r="r" b="b"/>
            <a:pathLst>
              <a:path w="126" h="510">
                <a:moveTo>
                  <a:pt x="0" y="510"/>
                </a:moveTo>
                <a:lnTo>
                  <a:pt x="9" y="504"/>
                </a:lnTo>
                <a:lnTo>
                  <a:pt x="9" y="504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81560" y="2050920"/>
            <a:ext cx="1652760" cy="6480"/>
          </a:xfrm>
          <a:custGeom>
            <a:avLst/>
            <a:gdLst/>
            <a:ahLst/>
            <a:rect l="l" t="t" r="r" b="b"/>
            <a:pathLst>
              <a:path w="1041" h="4">
                <a:moveTo>
                  <a:pt x="0" y="4"/>
                </a:moveTo>
                <a:lnTo>
                  <a:pt x="74" y="4"/>
                </a:lnTo>
                <a:lnTo>
                  <a:pt x="74" y="4"/>
                </a:lnTo>
                <a:lnTo>
                  <a:pt x="1041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42120" y="3578400"/>
            <a:ext cx="79092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2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145360" y="4079880"/>
            <a:ext cx="79056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142120" y="4599000"/>
            <a:ext cx="79092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3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145360" y="5111640"/>
            <a:ext cx="79056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8410680" y="22860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412120" y="243036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413920" y="257472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943680" y="2050920"/>
            <a:ext cx="1190520" cy="1710000"/>
          </a:xfrm>
          <a:custGeom>
            <a:avLst/>
            <a:gdLst/>
            <a:ahLst/>
            <a:rect l="l" t="t" r="r" b="b"/>
            <a:pathLst>
              <a:path w="126" h="510">
                <a:moveTo>
                  <a:pt x="0" y="510"/>
                </a:moveTo>
                <a:lnTo>
                  <a:pt x="9" y="504"/>
                </a:lnTo>
                <a:lnTo>
                  <a:pt x="9" y="504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6951600" y="2054160"/>
            <a:ext cx="1190520" cy="2247840"/>
          </a:xfrm>
          <a:custGeom>
            <a:avLst/>
            <a:gdLst/>
            <a:ahLst/>
            <a:rect l="l" t="t" r="r" b="b"/>
            <a:pathLst>
              <a:path w="126" h="510">
                <a:moveTo>
                  <a:pt x="0" y="510"/>
                </a:moveTo>
                <a:lnTo>
                  <a:pt x="9" y="504"/>
                </a:lnTo>
                <a:lnTo>
                  <a:pt x="9" y="504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932520" y="2063880"/>
            <a:ext cx="1190880" cy="2766960"/>
          </a:xfrm>
          <a:custGeom>
            <a:avLst/>
            <a:gdLst/>
            <a:ahLst/>
            <a:rect l="l" t="t" r="r" b="b"/>
            <a:pathLst>
              <a:path w="126" h="510">
                <a:moveTo>
                  <a:pt x="0" y="510"/>
                </a:moveTo>
                <a:lnTo>
                  <a:pt x="9" y="504"/>
                </a:lnTo>
                <a:lnTo>
                  <a:pt x="9" y="504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942240" y="2073240"/>
            <a:ext cx="1190520" cy="3252960"/>
          </a:xfrm>
          <a:custGeom>
            <a:avLst/>
            <a:gdLst/>
            <a:ahLst/>
            <a:rect l="l" t="t" r="r" b="b"/>
            <a:pathLst>
              <a:path w="126" h="510">
                <a:moveTo>
                  <a:pt x="0" y="510"/>
                </a:moveTo>
                <a:lnTo>
                  <a:pt x="9" y="504"/>
                </a:lnTo>
                <a:lnTo>
                  <a:pt x="9" y="504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932520" y="1538280"/>
            <a:ext cx="1190880" cy="609480"/>
          </a:xfrm>
          <a:custGeom>
            <a:avLst/>
            <a:gdLst/>
            <a:ahLst/>
            <a:rect l="l" t="t" r="r" b="b"/>
            <a:pathLst>
              <a:path w="126" h="510">
                <a:moveTo>
                  <a:pt x="0" y="510"/>
                </a:moveTo>
                <a:lnTo>
                  <a:pt x="9" y="504"/>
                </a:lnTo>
                <a:lnTo>
                  <a:pt x="9" y="504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39000" y="2054160"/>
            <a:ext cx="1190520" cy="90720"/>
          </a:xfrm>
          <a:custGeom>
            <a:avLst/>
            <a:gdLst/>
            <a:ahLst/>
            <a:rect l="l" t="t" r="r" b="b"/>
            <a:pathLst>
              <a:path w="126" h="510">
                <a:moveTo>
                  <a:pt x="0" y="510"/>
                </a:moveTo>
                <a:lnTo>
                  <a:pt x="9" y="504"/>
                </a:lnTo>
                <a:lnTo>
                  <a:pt x="9" y="504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937200" y="2147040"/>
            <a:ext cx="1190880" cy="947880"/>
          </a:xfrm>
          <a:custGeom>
            <a:avLst/>
            <a:gdLst/>
            <a:ahLst/>
            <a:rect l="l" t="t" r="r" b="b"/>
            <a:pathLst>
              <a:path w="126" h="510">
                <a:moveTo>
                  <a:pt x="0" y="510"/>
                </a:moveTo>
                <a:lnTo>
                  <a:pt x="9" y="504"/>
                </a:lnTo>
                <a:lnTo>
                  <a:pt x="9" y="504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935760" y="2148840"/>
            <a:ext cx="1190520" cy="1709640"/>
          </a:xfrm>
          <a:custGeom>
            <a:avLst/>
            <a:gdLst/>
            <a:ahLst/>
            <a:rect l="l" t="t" r="r" b="b"/>
            <a:pathLst>
              <a:path w="126" h="510">
                <a:moveTo>
                  <a:pt x="0" y="510"/>
                </a:moveTo>
                <a:lnTo>
                  <a:pt x="9" y="504"/>
                </a:lnTo>
                <a:lnTo>
                  <a:pt x="9" y="504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943680" y="2152800"/>
            <a:ext cx="1190520" cy="2247840"/>
          </a:xfrm>
          <a:custGeom>
            <a:avLst/>
            <a:gdLst/>
            <a:ahLst/>
            <a:rect l="l" t="t" r="r" b="b"/>
            <a:pathLst>
              <a:path w="126" h="510">
                <a:moveTo>
                  <a:pt x="0" y="510"/>
                </a:moveTo>
                <a:lnTo>
                  <a:pt x="9" y="504"/>
                </a:lnTo>
                <a:lnTo>
                  <a:pt x="9" y="504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924600" y="2162160"/>
            <a:ext cx="1190880" cy="2766960"/>
          </a:xfrm>
          <a:custGeom>
            <a:avLst/>
            <a:gdLst/>
            <a:ahLst/>
            <a:rect l="l" t="t" r="r" b="b"/>
            <a:pathLst>
              <a:path w="126" h="510">
                <a:moveTo>
                  <a:pt x="0" y="510"/>
                </a:moveTo>
                <a:lnTo>
                  <a:pt x="9" y="504"/>
                </a:lnTo>
                <a:lnTo>
                  <a:pt x="9" y="504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934320" y="2171160"/>
            <a:ext cx="1190520" cy="3252600"/>
          </a:xfrm>
          <a:custGeom>
            <a:avLst/>
            <a:gdLst/>
            <a:ahLst/>
            <a:rect l="l" t="t" r="r" b="b"/>
            <a:pathLst>
              <a:path w="126" h="510">
                <a:moveTo>
                  <a:pt x="0" y="510"/>
                </a:moveTo>
                <a:lnTo>
                  <a:pt x="9" y="504"/>
                </a:lnTo>
                <a:lnTo>
                  <a:pt x="9" y="504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00640" y="2156760"/>
            <a:ext cx="1603440" cy="42840"/>
          </a:xfrm>
          <a:custGeom>
            <a:avLst/>
            <a:gdLst/>
            <a:ahLst/>
            <a:rect l="l" t="t" r="r" b="b"/>
            <a:pathLst>
              <a:path w="282" h="551">
                <a:moveTo>
                  <a:pt x="280" y="544"/>
                </a:moveTo>
                <a:lnTo>
                  <a:pt x="282" y="55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91280" y="2141640"/>
            <a:ext cx="1652400" cy="6120"/>
          </a:xfrm>
          <a:custGeom>
            <a:avLst/>
            <a:gdLst/>
            <a:ahLst/>
            <a:rect l="l" t="t" r="r" b="b"/>
            <a:pathLst>
              <a:path w="1041" h="4">
                <a:moveTo>
                  <a:pt x="0" y="4"/>
                </a:moveTo>
                <a:lnTo>
                  <a:pt x="74" y="4"/>
                </a:lnTo>
                <a:lnTo>
                  <a:pt x="74" y="4"/>
                </a:lnTo>
                <a:lnTo>
                  <a:pt x="1041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4840" y="5154480"/>
            <a:ext cx="548136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Random but restricted networks possible with unicast bund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ach node can receive or transmit a maximum of 4 bund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11320" y="1222200"/>
            <a:ext cx="201276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Random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00600" y="1233360"/>
            <a:ext cx="221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PA Distribution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538440" y="3173400"/>
            <a:ext cx="7714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37040" y="2832120"/>
            <a:ext cx="601560" cy="3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32320" y="2914560"/>
            <a:ext cx="7714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532480" y="2295360"/>
            <a:ext cx="652320" cy="601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4000" y="4638600"/>
            <a:ext cx="152280" cy="4680"/>
          </a:xfrm>
          <a:custGeom>
            <a:avLst/>
            <a:gdLst/>
            <a:ahLst/>
            <a:rect l="l" t="t" r="r" b="b"/>
            <a:pathLst>
              <a:path w="96" h="3">
                <a:moveTo>
                  <a:pt x="0" y="3"/>
                </a:moveTo>
                <a:lnTo>
                  <a:pt x="9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4280" y="4371840"/>
            <a:ext cx="166680" cy="1800"/>
          </a:xfrm>
          <a:custGeom>
            <a:avLst/>
            <a:gdLst/>
            <a:ahLst/>
            <a:rect l="l" t="t" r="r" b="b"/>
            <a:pathLst>
              <a:path w="105" h="1">
                <a:moveTo>
                  <a:pt x="0" y="0"/>
                </a:moveTo>
                <a:lnTo>
                  <a:pt x="105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1200" y="4276800"/>
            <a:ext cx="19321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Broadcast Bun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Unicast Bun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Resulting topologies for Ethersound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00040" y="3402000"/>
            <a:ext cx="438120" cy="31284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76240" y="279252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44560" y="2397240"/>
            <a:ext cx="3052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Daisy chain network with loop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57480" y="3387600"/>
            <a:ext cx="704520" cy="505080"/>
          </a:xfrm>
          <a:custGeom>
            <a:avLst/>
            <a:gdLst/>
            <a:ahLst/>
            <a:rect l="l" t="t" r="r" b="b"/>
            <a:pathLst>
              <a:path w="366" h="460">
                <a:moveTo>
                  <a:pt x="366" y="7"/>
                </a:moveTo>
                <a:lnTo>
                  <a:pt x="210" y="4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5200" y="2778120"/>
            <a:ext cx="663480" cy="62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08000" y="3114720"/>
            <a:ext cx="397080" cy="28872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095480" y="3200400"/>
            <a:ext cx="177840" cy="204840"/>
          </a:xfrm>
          <a:custGeom>
            <a:avLst/>
            <a:gdLst/>
            <a:ahLst/>
            <a:rect l="l" t="t" r="r" b="b"/>
            <a:pathLst>
              <a:path w="112" h="129">
                <a:moveTo>
                  <a:pt x="112" y="127"/>
                </a:moveTo>
                <a:lnTo>
                  <a:pt x="52" y="0"/>
                </a:lnTo>
                <a:lnTo>
                  <a:pt x="0" y="129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30560" y="3394080"/>
            <a:ext cx="438120" cy="31284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06400" y="278460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087640" y="3379680"/>
            <a:ext cx="704880" cy="505080"/>
          </a:xfrm>
          <a:custGeom>
            <a:avLst/>
            <a:gdLst/>
            <a:ahLst/>
            <a:rect l="l" t="t" r="r" b="b"/>
            <a:pathLst>
              <a:path w="366" h="460">
                <a:moveTo>
                  <a:pt x="366" y="7"/>
                </a:moveTo>
                <a:lnTo>
                  <a:pt x="210" y="4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65360" y="2770200"/>
            <a:ext cx="663480" cy="62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8160" y="3106800"/>
            <a:ext cx="397080" cy="28872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25640" y="3192480"/>
            <a:ext cx="177840" cy="204840"/>
          </a:xfrm>
          <a:custGeom>
            <a:avLst/>
            <a:gdLst/>
            <a:ahLst/>
            <a:rect l="l" t="t" r="r" b="b"/>
            <a:pathLst>
              <a:path w="112" h="129">
                <a:moveTo>
                  <a:pt x="112" y="127"/>
                </a:moveTo>
                <a:lnTo>
                  <a:pt x="52" y="0"/>
                </a:lnTo>
                <a:lnTo>
                  <a:pt x="0" y="129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63960" y="3384720"/>
            <a:ext cx="438120" cy="31248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40160" y="2774880"/>
            <a:ext cx="468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921040" y="3370320"/>
            <a:ext cx="704880" cy="504720"/>
          </a:xfrm>
          <a:custGeom>
            <a:avLst/>
            <a:gdLst/>
            <a:ahLst/>
            <a:rect l="l" t="t" r="r" b="b"/>
            <a:pathLst>
              <a:path w="366" h="460">
                <a:moveTo>
                  <a:pt x="366" y="7"/>
                </a:moveTo>
                <a:lnTo>
                  <a:pt x="210" y="4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8760" y="2760840"/>
            <a:ext cx="663480" cy="62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71920" y="3097080"/>
            <a:ext cx="396720" cy="28908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59040" y="3182760"/>
            <a:ext cx="177840" cy="204840"/>
          </a:xfrm>
          <a:custGeom>
            <a:avLst/>
            <a:gdLst/>
            <a:ahLst/>
            <a:rect l="l" t="t" r="r" b="b"/>
            <a:pathLst>
              <a:path w="112" h="129">
                <a:moveTo>
                  <a:pt x="112" y="127"/>
                </a:moveTo>
                <a:lnTo>
                  <a:pt x="52" y="0"/>
                </a:lnTo>
                <a:lnTo>
                  <a:pt x="0" y="129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94120" y="3376440"/>
            <a:ext cx="438120" cy="31284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70320" y="276696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51200" y="3362400"/>
            <a:ext cx="704880" cy="504720"/>
          </a:xfrm>
          <a:custGeom>
            <a:avLst/>
            <a:gdLst/>
            <a:ahLst/>
            <a:rect l="l" t="t" r="r" b="b"/>
            <a:pathLst>
              <a:path w="366" h="460">
                <a:moveTo>
                  <a:pt x="366" y="7"/>
                </a:moveTo>
                <a:lnTo>
                  <a:pt x="210" y="4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28920" y="2752560"/>
            <a:ext cx="663480" cy="6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502080" y="3089160"/>
            <a:ext cx="396720" cy="28908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4840"/>
            <a:ext cx="177840" cy="204840"/>
          </a:xfrm>
          <a:custGeom>
            <a:avLst/>
            <a:gdLst/>
            <a:ahLst/>
            <a:rect l="l" t="t" r="r" b="b"/>
            <a:pathLst>
              <a:path w="112" h="129">
                <a:moveTo>
                  <a:pt x="112" y="127"/>
                </a:moveTo>
                <a:lnTo>
                  <a:pt x="52" y="0"/>
                </a:lnTo>
                <a:lnTo>
                  <a:pt x="0" y="129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27520" y="3367080"/>
            <a:ext cx="438120" cy="31284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03720" y="275760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84600" y="3352680"/>
            <a:ext cx="704880" cy="505080"/>
          </a:xfrm>
          <a:custGeom>
            <a:avLst/>
            <a:gdLst/>
            <a:ahLst/>
            <a:rect l="l" t="t" r="r" b="b"/>
            <a:pathLst>
              <a:path w="366" h="460">
                <a:moveTo>
                  <a:pt x="366" y="7"/>
                </a:moveTo>
                <a:lnTo>
                  <a:pt x="210" y="4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162320" y="2743200"/>
            <a:ext cx="663840" cy="62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335480" y="3079800"/>
            <a:ext cx="396720" cy="28872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22600" y="3165480"/>
            <a:ext cx="177840" cy="204840"/>
          </a:xfrm>
          <a:custGeom>
            <a:avLst/>
            <a:gdLst/>
            <a:ahLst/>
            <a:rect l="l" t="t" r="r" b="b"/>
            <a:pathLst>
              <a:path w="112" h="129">
                <a:moveTo>
                  <a:pt x="112" y="127"/>
                </a:moveTo>
                <a:lnTo>
                  <a:pt x="52" y="0"/>
                </a:lnTo>
                <a:lnTo>
                  <a:pt x="0" y="129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57680" y="3359160"/>
            <a:ext cx="438480" cy="31284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33880" y="274968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15120" y="3344760"/>
            <a:ext cx="704520" cy="505080"/>
          </a:xfrm>
          <a:custGeom>
            <a:avLst/>
            <a:gdLst/>
            <a:ahLst/>
            <a:rect l="l" t="t" r="r" b="b"/>
            <a:pathLst>
              <a:path w="366" h="460">
                <a:moveTo>
                  <a:pt x="366" y="7"/>
                </a:moveTo>
                <a:lnTo>
                  <a:pt x="210" y="4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92840" y="2735280"/>
            <a:ext cx="663480" cy="62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65640" y="3071880"/>
            <a:ext cx="397080" cy="28872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53120" y="3157560"/>
            <a:ext cx="177840" cy="204840"/>
          </a:xfrm>
          <a:custGeom>
            <a:avLst/>
            <a:gdLst/>
            <a:ahLst/>
            <a:rect l="l" t="t" r="r" b="b"/>
            <a:pathLst>
              <a:path w="112" h="129">
                <a:moveTo>
                  <a:pt x="112" y="127"/>
                </a:moveTo>
                <a:lnTo>
                  <a:pt x="52" y="0"/>
                </a:lnTo>
                <a:lnTo>
                  <a:pt x="0" y="129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391440" y="3349800"/>
            <a:ext cx="438120" cy="31248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67280" y="273996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48520" y="3335400"/>
            <a:ext cx="704880" cy="504720"/>
          </a:xfrm>
          <a:custGeom>
            <a:avLst/>
            <a:gdLst/>
            <a:ahLst/>
            <a:rect l="l" t="t" r="r" b="b"/>
            <a:pathLst>
              <a:path w="366" h="460">
                <a:moveTo>
                  <a:pt x="366" y="7"/>
                </a:moveTo>
                <a:lnTo>
                  <a:pt x="210" y="4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26240" y="2725560"/>
            <a:ext cx="663480" cy="6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999040" y="3062160"/>
            <a:ext cx="397080" cy="28908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86520" y="3147840"/>
            <a:ext cx="177840" cy="204840"/>
          </a:xfrm>
          <a:custGeom>
            <a:avLst/>
            <a:gdLst/>
            <a:ahLst/>
            <a:rect l="l" t="t" r="r" b="b"/>
            <a:pathLst>
              <a:path w="112" h="129">
                <a:moveTo>
                  <a:pt x="112" y="127"/>
                </a:moveTo>
                <a:lnTo>
                  <a:pt x="52" y="0"/>
                </a:lnTo>
                <a:lnTo>
                  <a:pt x="0" y="129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221600" y="3341520"/>
            <a:ext cx="438120" cy="31284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697800" y="2732040"/>
            <a:ext cx="468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78680" y="3327480"/>
            <a:ext cx="704880" cy="504720"/>
          </a:xfrm>
          <a:custGeom>
            <a:avLst/>
            <a:gdLst/>
            <a:ahLst/>
            <a:rect l="l" t="t" r="r" b="b"/>
            <a:pathLst>
              <a:path w="366" h="460">
                <a:moveTo>
                  <a:pt x="366" y="7"/>
                </a:moveTo>
                <a:lnTo>
                  <a:pt x="210" y="4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656400" y="2717640"/>
            <a:ext cx="663480" cy="6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29560" y="3054240"/>
            <a:ext cx="396720" cy="28908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16680" y="3139920"/>
            <a:ext cx="177840" cy="204840"/>
          </a:xfrm>
          <a:custGeom>
            <a:avLst/>
            <a:gdLst/>
            <a:ahLst/>
            <a:rect l="l" t="t" r="r" b="b"/>
            <a:pathLst>
              <a:path w="112" h="129">
                <a:moveTo>
                  <a:pt x="112" y="127"/>
                </a:moveTo>
                <a:lnTo>
                  <a:pt x="52" y="0"/>
                </a:lnTo>
                <a:lnTo>
                  <a:pt x="0" y="129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532640" y="272412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491240" y="2709720"/>
            <a:ext cx="663840" cy="6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64400" y="3227400"/>
            <a:ext cx="115920" cy="10800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386000" y="2092320"/>
            <a:ext cx="438120" cy="31284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61840" y="148284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0160" y="1087560"/>
            <a:ext cx="3052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Daisy chain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0800" y="1468440"/>
            <a:ext cx="663480" cy="62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93600" y="1805040"/>
            <a:ext cx="397080" cy="28872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16160" y="2084400"/>
            <a:ext cx="438120" cy="31284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92360" y="147492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650960" y="1460520"/>
            <a:ext cx="663480" cy="62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824120" y="1797120"/>
            <a:ext cx="396720" cy="28872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49560" y="2075040"/>
            <a:ext cx="438120" cy="31248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525760" y="146520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84360" y="1450800"/>
            <a:ext cx="663480" cy="6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57520" y="1787400"/>
            <a:ext cx="396720" cy="28908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79720" y="2066760"/>
            <a:ext cx="438120" cy="31284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355920" y="145728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314880" y="1442880"/>
            <a:ext cx="663480" cy="6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87680" y="1779480"/>
            <a:ext cx="397080" cy="28908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713120" y="2057400"/>
            <a:ext cx="438480" cy="31284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89320" y="144792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48280" y="1433520"/>
            <a:ext cx="663480" cy="62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321080" y="1770120"/>
            <a:ext cx="397080" cy="28872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543640" y="2049480"/>
            <a:ext cx="438120" cy="31284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9840" y="1440000"/>
            <a:ext cx="468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78440" y="1425600"/>
            <a:ext cx="663480" cy="62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151600" y="1762200"/>
            <a:ext cx="396720" cy="28872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377040" y="2039760"/>
            <a:ext cx="438120" cy="31284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853240" y="143028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11840" y="1415880"/>
            <a:ext cx="663480" cy="6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85000" y="1752480"/>
            <a:ext cx="396720" cy="28908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07200" y="2031840"/>
            <a:ext cx="438120" cy="31284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83400" y="142236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42000" y="1407960"/>
            <a:ext cx="663840" cy="6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815160" y="1744560"/>
            <a:ext cx="396720" cy="28908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518240" y="141444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477200" y="1400040"/>
            <a:ext cx="663480" cy="6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384200" y="4925880"/>
            <a:ext cx="438120" cy="31284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60400" y="431640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28720" y="3921120"/>
            <a:ext cx="3052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Redundant 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41280" y="4911840"/>
            <a:ext cx="704880" cy="504720"/>
          </a:xfrm>
          <a:custGeom>
            <a:avLst/>
            <a:gdLst/>
            <a:ahLst/>
            <a:rect l="l" t="t" r="r" b="b"/>
            <a:pathLst>
              <a:path w="366" h="460">
                <a:moveTo>
                  <a:pt x="366" y="7"/>
                </a:moveTo>
                <a:lnTo>
                  <a:pt x="210" y="4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19000" y="4302000"/>
            <a:ext cx="663840" cy="6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92160" y="4638600"/>
            <a:ext cx="397080" cy="28908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079640" y="4724280"/>
            <a:ext cx="177840" cy="204840"/>
          </a:xfrm>
          <a:custGeom>
            <a:avLst/>
            <a:gdLst/>
            <a:ahLst/>
            <a:rect l="l" t="t" r="r" b="b"/>
            <a:pathLst>
              <a:path w="112" h="129">
                <a:moveTo>
                  <a:pt x="112" y="127"/>
                </a:moveTo>
                <a:lnTo>
                  <a:pt x="52" y="0"/>
                </a:lnTo>
                <a:lnTo>
                  <a:pt x="0" y="129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14720" y="4917960"/>
            <a:ext cx="438120" cy="31284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90560" y="430848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71800" y="4903920"/>
            <a:ext cx="704880" cy="504720"/>
          </a:xfrm>
          <a:custGeom>
            <a:avLst/>
            <a:gdLst/>
            <a:ahLst/>
            <a:rect l="l" t="t" r="r" b="b"/>
            <a:pathLst>
              <a:path w="366" h="460">
                <a:moveTo>
                  <a:pt x="366" y="7"/>
                </a:moveTo>
                <a:lnTo>
                  <a:pt x="210" y="4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49520" y="4294080"/>
            <a:ext cx="663480" cy="6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22320" y="4630680"/>
            <a:ext cx="397080" cy="28908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09800" y="4716360"/>
            <a:ext cx="177840" cy="204840"/>
          </a:xfrm>
          <a:custGeom>
            <a:avLst/>
            <a:gdLst/>
            <a:ahLst/>
            <a:rect l="l" t="t" r="r" b="b"/>
            <a:pathLst>
              <a:path w="112" h="129">
                <a:moveTo>
                  <a:pt x="112" y="127"/>
                </a:moveTo>
                <a:lnTo>
                  <a:pt x="52" y="0"/>
                </a:lnTo>
                <a:lnTo>
                  <a:pt x="0" y="129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8120" y="4908600"/>
            <a:ext cx="438120" cy="31284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23960" y="429912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05200" y="4894200"/>
            <a:ext cx="704880" cy="504720"/>
          </a:xfrm>
          <a:custGeom>
            <a:avLst/>
            <a:gdLst/>
            <a:ahLst/>
            <a:rect l="l" t="t" r="r" b="b"/>
            <a:pathLst>
              <a:path w="366" h="460">
                <a:moveTo>
                  <a:pt x="366" y="7"/>
                </a:moveTo>
                <a:lnTo>
                  <a:pt x="210" y="4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482920" y="4284720"/>
            <a:ext cx="663480" cy="62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655720" y="4621320"/>
            <a:ext cx="397080" cy="28872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43200" y="4707000"/>
            <a:ext cx="177840" cy="204840"/>
          </a:xfrm>
          <a:custGeom>
            <a:avLst/>
            <a:gdLst/>
            <a:ahLst/>
            <a:rect l="l" t="t" r="r" b="b"/>
            <a:pathLst>
              <a:path w="112" h="129">
                <a:moveTo>
                  <a:pt x="112" y="127"/>
                </a:moveTo>
                <a:lnTo>
                  <a:pt x="52" y="0"/>
                </a:lnTo>
                <a:lnTo>
                  <a:pt x="0" y="129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78280" y="4900680"/>
            <a:ext cx="438120" cy="31284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4480" y="429084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35360" y="4886280"/>
            <a:ext cx="704880" cy="504720"/>
          </a:xfrm>
          <a:custGeom>
            <a:avLst/>
            <a:gdLst/>
            <a:ahLst/>
            <a:rect l="l" t="t" r="r" b="b"/>
            <a:pathLst>
              <a:path w="366" h="460">
                <a:moveTo>
                  <a:pt x="366" y="7"/>
                </a:moveTo>
                <a:lnTo>
                  <a:pt x="210" y="4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13080" y="4276800"/>
            <a:ext cx="663480" cy="62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86240" y="4613400"/>
            <a:ext cx="396720" cy="28872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573360" y="4699080"/>
            <a:ext cx="177840" cy="204840"/>
          </a:xfrm>
          <a:custGeom>
            <a:avLst/>
            <a:gdLst/>
            <a:ahLst/>
            <a:rect l="l" t="t" r="r" b="b"/>
            <a:pathLst>
              <a:path w="112" h="129">
                <a:moveTo>
                  <a:pt x="112" y="127"/>
                </a:moveTo>
                <a:lnTo>
                  <a:pt x="52" y="0"/>
                </a:lnTo>
                <a:lnTo>
                  <a:pt x="0" y="129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711680" y="4890960"/>
            <a:ext cx="438120" cy="31284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87880" y="428148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68760" y="4876920"/>
            <a:ext cx="704880" cy="504720"/>
          </a:xfrm>
          <a:custGeom>
            <a:avLst/>
            <a:gdLst/>
            <a:ahLst/>
            <a:rect l="l" t="t" r="r" b="b"/>
            <a:pathLst>
              <a:path w="366" h="460">
                <a:moveTo>
                  <a:pt x="366" y="7"/>
                </a:moveTo>
                <a:lnTo>
                  <a:pt x="210" y="4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46480" y="4267080"/>
            <a:ext cx="663480" cy="6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319640" y="4603680"/>
            <a:ext cx="396720" cy="28908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406760" y="4689360"/>
            <a:ext cx="177840" cy="204840"/>
          </a:xfrm>
          <a:custGeom>
            <a:avLst/>
            <a:gdLst/>
            <a:ahLst/>
            <a:rect l="l" t="t" r="r" b="b"/>
            <a:pathLst>
              <a:path w="112" h="129">
                <a:moveTo>
                  <a:pt x="112" y="127"/>
                </a:moveTo>
                <a:lnTo>
                  <a:pt x="52" y="0"/>
                </a:lnTo>
                <a:lnTo>
                  <a:pt x="0" y="129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1840" y="4883040"/>
            <a:ext cx="438120" cy="31284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18040" y="427356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98920" y="4869000"/>
            <a:ext cx="704880" cy="504720"/>
          </a:xfrm>
          <a:custGeom>
            <a:avLst/>
            <a:gdLst/>
            <a:ahLst/>
            <a:rect l="l" t="t" r="r" b="b"/>
            <a:pathLst>
              <a:path w="366" h="460">
                <a:moveTo>
                  <a:pt x="366" y="7"/>
                </a:moveTo>
                <a:lnTo>
                  <a:pt x="210" y="4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976640" y="4259160"/>
            <a:ext cx="663840" cy="6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49800" y="4595760"/>
            <a:ext cx="397080" cy="28908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237280" y="4681440"/>
            <a:ext cx="177840" cy="204840"/>
          </a:xfrm>
          <a:custGeom>
            <a:avLst/>
            <a:gdLst/>
            <a:ahLst/>
            <a:rect l="l" t="t" r="r" b="b"/>
            <a:pathLst>
              <a:path w="112" h="129">
                <a:moveTo>
                  <a:pt x="112" y="127"/>
                </a:moveTo>
                <a:lnTo>
                  <a:pt x="52" y="0"/>
                </a:lnTo>
                <a:lnTo>
                  <a:pt x="0" y="129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75240" y="4873680"/>
            <a:ext cx="438480" cy="31284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851440" y="426420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232680" y="4859280"/>
            <a:ext cx="704520" cy="504720"/>
          </a:xfrm>
          <a:custGeom>
            <a:avLst/>
            <a:gdLst/>
            <a:ahLst/>
            <a:rect l="l" t="t" r="r" b="b"/>
            <a:pathLst>
              <a:path w="366" h="460">
                <a:moveTo>
                  <a:pt x="366" y="7"/>
                </a:moveTo>
                <a:lnTo>
                  <a:pt x="210" y="4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10400" y="4249800"/>
            <a:ext cx="663480" cy="62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983200" y="4586400"/>
            <a:ext cx="397080" cy="28872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070680" y="4672080"/>
            <a:ext cx="177840" cy="204840"/>
          </a:xfrm>
          <a:custGeom>
            <a:avLst/>
            <a:gdLst/>
            <a:ahLst/>
            <a:rect l="l" t="t" r="r" b="b"/>
            <a:pathLst>
              <a:path w="112" h="129">
                <a:moveTo>
                  <a:pt x="112" y="127"/>
                </a:moveTo>
                <a:lnTo>
                  <a:pt x="52" y="0"/>
                </a:lnTo>
                <a:lnTo>
                  <a:pt x="0" y="129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05760" y="4865760"/>
            <a:ext cx="438120" cy="312840"/>
          </a:xfrm>
          <a:custGeom>
            <a:avLst/>
            <a:gdLst/>
            <a:ahLst/>
            <a:rect l="l" t="t" r="r" b="b"/>
            <a:pathLst>
              <a:path w="276" h="197">
                <a:moveTo>
                  <a:pt x="0" y="3"/>
                </a:moveTo>
                <a:lnTo>
                  <a:pt x="157" y="197"/>
                </a:lnTo>
                <a:lnTo>
                  <a:pt x="27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81960" y="4255920"/>
            <a:ext cx="468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062840" y="4851360"/>
            <a:ext cx="704880" cy="504720"/>
          </a:xfrm>
          <a:custGeom>
            <a:avLst/>
            <a:gdLst/>
            <a:ahLst/>
            <a:rect l="l" t="t" r="r" b="b"/>
            <a:pathLst>
              <a:path w="366" h="460">
                <a:moveTo>
                  <a:pt x="366" y="7"/>
                </a:moveTo>
                <a:lnTo>
                  <a:pt x="210" y="4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640560" y="4241880"/>
            <a:ext cx="663480" cy="62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813720" y="4578480"/>
            <a:ext cx="396720" cy="28872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00840" y="4664160"/>
            <a:ext cx="177840" cy="204840"/>
          </a:xfrm>
          <a:custGeom>
            <a:avLst/>
            <a:gdLst/>
            <a:ahLst/>
            <a:rect l="l" t="t" r="r" b="b"/>
            <a:pathLst>
              <a:path w="112" h="129">
                <a:moveTo>
                  <a:pt x="112" y="127"/>
                </a:moveTo>
                <a:lnTo>
                  <a:pt x="52" y="0"/>
                </a:lnTo>
                <a:lnTo>
                  <a:pt x="0" y="129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516800" y="4248000"/>
            <a:ext cx="4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75400" y="4233960"/>
            <a:ext cx="663840" cy="62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77760" y="4867200"/>
            <a:ext cx="7062840" cy="735120"/>
          </a:xfrm>
          <a:custGeom>
            <a:avLst/>
            <a:gdLst/>
            <a:ahLst/>
            <a:rect l="l" t="t" r="r" b="b"/>
            <a:pathLst>
              <a:path w="4399" h="463">
                <a:moveTo>
                  <a:pt x="4393" y="0"/>
                </a:moveTo>
                <a:lnTo>
                  <a:pt x="4399" y="463"/>
                </a:lnTo>
                <a:lnTo>
                  <a:pt x="0" y="452"/>
                </a:lnTo>
                <a:lnTo>
                  <a:pt x="6" y="33"/>
                </a:lnTo>
              </a:path>
            </a:pathLst>
          </a:custGeom>
          <a:noFill/>
          <a:ln w="9360">
            <a:solidFill>
              <a:srgbClr val="0000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093680" y="4876920"/>
            <a:ext cx="6805800" cy="627120"/>
          </a:xfrm>
          <a:custGeom>
            <a:avLst/>
            <a:gdLst/>
            <a:ahLst/>
            <a:rect l="l" t="t" r="r" b="b"/>
            <a:pathLst>
              <a:path w="4287" h="395">
                <a:moveTo>
                  <a:pt x="0" y="40"/>
                </a:moveTo>
                <a:lnTo>
                  <a:pt x="0" y="395"/>
                </a:lnTo>
                <a:lnTo>
                  <a:pt x="4286" y="390"/>
                </a:lnTo>
                <a:lnTo>
                  <a:pt x="4287" y="0"/>
                </a:lnTo>
              </a:path>
            </a:pathLst>
          </a:custGeom>
          <a:noFill/>
          <a:ln w="9360">
            <a:solidFill>
              <a:srgbClr val="00cc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651800" y="4560840"/>
            <a:ext cx="396720" cy="289080"/>
          </a:xfrm>
          <a:custGeom>
            <a:avLst/>
            <a:gdLst/>
            <a:ahLst/>
            <a:rect l="l" t="t" r="r" b="b"/>
            <a:pathLst>
              <a:path w="250" h="182">
                <a:moveTo>
                  <a:pt x="0" y="179"/>
                </a:moveTo>
                <a:lnTo>
                  <a:pt x="116" y="0"/>
                </a:lnTo>
                <a:lnTo>
                  <a:pt x="250" y="18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738920" y="4646520"/>
            <a:ext cx="177840" cy="204840"/>
          </a:xfrm>
          <a:custGeom>
            <a:avLst/>
            <a:gdLst/>
            <a:ahLst/>
            <a:rect l="l" t="t" r="r" b="b"/>
            <a:pathLst>
              <a:path w="112" h="129">
                <a:moveTo>
                  <a:pt x="112" y="127"/>
                </a:moveTo>
                <a:lnTo>
                  <a:pt x="52" y="0"/>
                </a:lnTo>
                <a:lnTo>
                  <a:pt x="0" y="129"/>
                </a:lnTo>
              </a:path>
            </a:pathLst>
          </a:custGeom>
          <a:noFill/>
          <a:ln w="936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Resulting topologies for Ethersound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0160" y="1087560"/>
            <a:ext cx="3052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Star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814400" y="2236680"/>
            <a:ext cx="62892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18280" y="1577880"/>
            <a:ext cx="79056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321160" y="2079720"/>
            <a:ext cx="79056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21160" y="3111480"/>
            <a:ext cx="79056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60800" y="190188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87880" y="2144880"/>
            <a:ext cx="1342800" cy="44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467080" y="2370960"/>
            <a:ext cx="1603440" cy="42840"/>
          </a:xfrm>
          <a:custGeom>
            <a:avLst/>
            <a:gdLst/>
            <a:ahLst/>
            <a:rect l="l" t="t" r="r" b="b"/>
            <a:pathLst>
              <a:path w="282" h="551">
                <a:moveTo>
                  <a:pt x="280" y="544"/>
                </a:moveTo>
                <a:lnTo>
                  <a:pt x="282" y="55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116240" y="1744560"/>
            <a:ext cx="1190880" cy="609840"/>
          </a:xfrm>
          <a:custGeom>
            <a:avLst/>
            <a:gdLst/>
            <a:ahLst/>
            <a:rect l="l" t="t" r="r" b="b"/>
            <a:pathLst>
              <a:path w="126" h="510">
                <a:moveTo>
                  <a:pt x="0" y="510"/>
                </a:moveTo>
                <a:lnTo>
                  <a:pt x="9" y="504"/>
                </a:lnTo>
                <a:lnTo>
                  <a:pt x="9" y="504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22720" y="2260440"/>
            <a:ext cx="1190520" cy="90720"/>
          </a:xfrm>
          <a:custGeom>
            <a:avLst/>
            <a:gdLst/>
            <a:ahLst/>
            <a:rect l="l" t="t" r="r" b="b"/>
            <a:pathLst>
              <a:path w="126" h="510">
                <a:moveTo>
                  <a:pt x="0" y="510"/>
                </a:moveTo>
                <a:lnTo>
                  <a:pt x="9" y="504"/>
                </a:lnTo>
                <a:lnTo>
                  <a:pt x="9" y="504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4121280" y="2354400"/>
            <a:ext cx="1190520" cy="947520"/>
          </a:xfrm>
          <a:custGeom>
            <a:avLst/>
            <a:gdLst/>
            <a:ahLst/>
            <a:rect l="l" t="t" r="r" b="b"/>
            <a:pathLst>
              <a:path w="126" h="510">
                <a:moveTo>
                  <a:pt x="0" y="510"/>
                </a:moveTo>
                <a:lnTo>
                  <a:pt x="9" y="504"/>
                </a:lnTo>
                <a:lnTo>
                  <a:pt x="9" y="504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57360" y="2355840"/>
            <a:ext cx="1652760" cy="6480"/>
          </a:xfrm>
          <a:custGeom>
            <a:avLst/>
            <a:gdLst/>
            <a:ahLst/>
            <a:rect l="l" t="t" r="r" b="b"/>
            <a:pathLst>
              <a:path w="1041" h="4">
                <a:moveTo>
                  <a:pt x="0" y="4"/>
                </a:moveTo>
                <a:lnTo>
                  <a:pt x="74" y="4"/>
                </a:lnTo>
                <a:lnTo>
                  <a:pt x="74" y="4"/>
                </a:lnTo>
                <a:lnTo>
                  <a:pt x="1041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318280" y="3882960"/>
            <a:ext cx="79056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2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21160" y="4384800"/>
            <a:ext cx="79056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318280" y="4903920"/>
            <a:ext cx="79056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3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321160" y="5416560"/>
            <a:ext cx="79056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5586480" y="259056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5587920" y="273492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5589720" y="28796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119480" y="2355120"/>
            <a:ext cx="1190880" cy="1709640"/>
          </a:xfrm>
          <a:custGeom>
            <a:avLst/>
            <a:gdLst/>
            <a:ahLst/>
            <a:rect l="l" t="t" r="r" b="b"/>
            <a:pathLst>
              <a:path w="126" h="510">
                <a:moveTo>
                  <a:pt x="0" y="510"/>
                </a:moveTo>
                <a:lnTo>
                  <a:pt x="9" y="504"/>
                </a:lnTo>
                <a:lnTo>
                  <a:pt x="9" y="504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127400" y="2359080"/>
            <a:ext cx="1190880" cy="2247840"/>
          </a:xfrm>
          <a:custGeom>
            <a:avLst/>
            <a:gdLst/>
            <a:ahLst/>
            <a:rect l="l" t="t" r="r" b="b"/>
            <a:pathLst>
              <a:path w="126" h="510">
                <a:moveTo>
                  <a:pt x="0" y="510"/>
                </a:moveTo>
                <a:lnTo>
                  <a:pt x="9" y="504"/>
                </a:lnTo>
                <a:lnTo>
                  <a:pt x="9" y="504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4108320" y="2368440"/>
            <a:ext cx="1190880" cy="2766960"/>
          </a:xfrm>
          <a:custGeom>
            <a:avLst/>
            <a:gdLst/>
            <a:ahLst/>
            <a:rect l="l" t="t" r="r" b="b"/>
            <a:pathLst>
              <a:path w="126" h="510">
                <a:moveTo>
                  <a:pt x="0" y="510"/>
                </a:moveTo>
                <a:lnTo>
                  <a:pt x="9" y="504"/>
                </a:lnTo>
                <a:lnTo>
                  <a:pt x="9" y="504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118040" y="2377440"/>
            <a:ext cx="1190520" cy="3252600"/>
          </a:xfrm>
          <a:custGeom>
            <a:avLst/>
            <a:gdLst/>
            <a:ahLst/>
            <a:rect l="l" t="t" r="r" b="b"/>
            <a:pathLst>
              <a:path w="126" h="510">
                <a:moveTo>
                  <a:pt x="0" y="510"/>
                </a:moveTo>
                <a:lnTo>
                  <a:pt x="9" y="504"/>
                </a:lnTo>
                <a:lnTo>
                  <a:pt x="9" y="504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76400" y="1538280"/>
            <a:ext cx="221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PA Distribution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508120" y="3219480"/>
            <a:ext cx="7714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708280" y="2600280"/>
            <a:ext cx="652320" cy="601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25800" y="2664000"/>
            <a:ext cx="458640" cy="549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90760" y="3301920"/>
            <a:ext cx="2009880" cy="100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458040" y="1560600"/>
            <a:ext cx="79056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1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7800" y="1542960"/>
            <a:ext cx="79056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N1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18120" y="1327320"/>
            <a:ext cx="1444680" cy="349200"/>
          </a:xfrm>
          <a:custGeom>
            <a:avLst/>
            <a:gdLst/>
            <a:ahLst/>
            <a:rect l="l" t="t" r="r" b="b"/>
            <a:pathLst>
              <a:path w="910" h="220">
                <a:moveTo>
                  <a:pt x="130" y="203"/>
                </a:moveTo>
                <a:lnTo>
                  <a:pt x="12" y="220"/>
                </a:lnTo>
                <a:lnTo>
                  <a:pt x="0" y="28"/>
                </a:lnTo>
                <a:lnTo>
                  <a:pt x="910" y="0"/>
                </a:lnTo>
                <a:lnTo>
                  <a:pt x="910" y="141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1336680"/>
            <a:ext cx="996840" cy="223920"/>
          </a:xfrm>
          <a:custGeom>
            <a:avLst/>
            <a:gdLst/>
            <a:ahLst/>
            <a:rect l="l" t="t" r="r" b="b"/>
            <a:pathLst>
              <a:path w="628" h="141">
                <a:moveTo>
                  <a:pt x="0" y="141"/>
                </a:moveTo>
                <a:lnTo>
                  <a:pt x="11" y="5"/>
                </a:lnTo>
                <a:lnTo>
                  <a:pt x="628" y="0"/>
                </a:lnTo>
                <a:lnTo>
                  <a:pt x="628" y="141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CobraNet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04920" y="1273320"/>
            <a:ext cx="852948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20 Bit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Very high installed basis in live and install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plemented by BSS, Crown, QSC, BiAmp, Yamaha, Studer, Soundcraft…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Not suitable for many applications like monitoring due to it‘s large latency (5.33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Redundant links possible, but (!) inactive link is not supervised -&gt; rather us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96 kHz, 24 Bit, or lower latencies such as 1.33ms or 2.66ms possible with different module firmware but with drawbacks (e.g. only 7 channels per bund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Gigabit standard is in a very early s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CobraNet Discovery T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6553080" y="930240"/>
            <a:ext cx="2476800" cy="45338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2227320" y="2892600"/>
            <a:ext cx="4076640" cy="31334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138240" y="1054080"/>
            <a:ext cx="62481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Ethersound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273320"/>
            <a:ext cx="852948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Becoming more and more important in live and broadcast 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plemented by Digigram, Auvitran, Innovason, Nexo, Yamaha, Allen &amp; Heath, DiGico, Martin Audio, Studer, Soundcraft…</a:t>
            </a: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ES-Giga Gigabit standard is in a very early stage but has been demonst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ES Control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1077840" y="946080"/>
            <a:ext cx="665964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274680"/>
            <a:ext cx="9144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49280" y="1417680"/>
            <a:ext cx="852948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oth Ethersound and Cobranet are used in the market. Ethersound mostly in live and broadcast, Cobranet mostly in Live / Inst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oth have their technical 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Cost effective cabling and distributing is the main advantage of both network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" y="1152000"/>
            <a:ext cx="8854920" cy="48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Introduction to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EtherSound and Cobranet Ethernet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Other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The “OSI Model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6880" y="1274760"/>
            <a:ext cx="3848400" cy="4448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Vernetzung Bild 7"/>
          <p:cNvPicPr/>
          <p:nvPr/>
        </p:nvPicPr>
        <p:blipFill>
          <a:blip r:embed="rId2"/>
          <a:stretch/>
        </p:blipFill>
        <p:spPr>
          <a:xfrm>
            <a:off x="4795920" y="1771560"/>
            <a:ext cx="3952800" cy="3829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V="1">
            <a:off x="3743280" y="4314600"/>
            <a:ext cx="12477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735360" y="4011120"/>
            <a:ext cx="12477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27440" y="3498840"/>
            <a:ext cx="124776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19520" y="2986200"/>
            <a:ext cx="12477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711600" y="1940040"/>
            <a:ext cx="12384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Ethernet Physical Layer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09520" y="885960"/>
          <a:ext cx="8667720" cy="4938480"/>
        </p:xfrm>
        <a:graphic>
          <a:graphicData uri="http://schemas.openxmlformats.org/drawingml/2006/table">
            <a:tbl>
              <a:tblPr/>
              <a:tblGrid>
                <a:gridCol w="1390680"/>
                <a:gridCol w="1647720"/>
                <a:gridCol w="2076480"/>
                <a:gridCol w="1962360"/>
                <a:gridCol w="1590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Bit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Bit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GBit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GBit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 Coax or Twin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m coax with vampire connector (198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 coax c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BASE-CX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 Twisted P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BASE-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BASE-T2* (CAT3 with PAM Modula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BASE-T4* (CAT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BASE-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GBASE-T</a:t>
                      </a:r>
                      <a:br>
                        <a:rPr sz="1400"/>
                      </a:b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5m CAT6e 500MHz, 100m CAT6a 625MHz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BASE-FX (FDDI, vertical or campus backbon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BASE-S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rizontal fiber – low co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BASE-LX (vertical or campus backbon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GBASE-LX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GBASE-SX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GBASE-S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GBASE-S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GBASE-L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GBASE-L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GBASE-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GBASE-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257040" y="5819760"/>
            <a:ext cx="552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* Standards without market su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The Ethernet frame on the data link 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036800"/>
            <a:ext cx="8201160" cy="2458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76280" y="4143240"/>
            <a:ext cx="8362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95360" y="3666960"/>
          <a:ext cx="8134200" cy="2121120"/>
        </p:xfrm>
        <a:graphic>
          <a:graphicData uri="http://schemas.openxmlformats.org/drawingml/2006/table">
            <a:tbl>
              <a:tblPr/>
              <a:tblGrid>
                <a:gridCol w="3009960"/>
                <a:gridCol w="2255760"/>
                <a:gridCol w="2868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Packet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acket size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6 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 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ead in 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ead 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438120" y="5819760"/>
            <a:ext cx="552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* Larger sizes possible with „Jumbo-Frames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On which layer to transport Au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80880" y="1228680"/>
          <a:ext cx="8266320" cy="4768920"/>
        </p:xfrm>
        <a:graphic>
          <a:graphicData uri="http://schemas.openxmlformats.org/drawingml/2006/table">
            <a:tbl>
              <a:tblPr/>
              <a:tblGrid>
                <a:gridCol w="2248200"/>
                <a:gridCol w="3771720"/>
                <a:gridCol w="224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/Disadvanta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physical lay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Low overh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nly point-to-point connections can be established with a guaranteed quality of service (QoS) (Ethernet hubs are useles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S-10 (MAD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S-50 (SuperMA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om A-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 Data Link Lay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C Address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Audio can be distributed point-to-point and/or broadcast (Address FF:FF:FF:FF:FF:FF) using ethernet switch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low overhea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other traffic possible (but risky!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outing over large networks and inter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oint to multi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ra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s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– Network Lay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P Address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flexible network topologies routing configur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standard PC hardw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overhea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sync extr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IA Livew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– Transport Lay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DP or TCP/I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hig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Worldwide rou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effici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sync extraction, very high 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Quality of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Audio Stream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Large or small packets for aud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273320"/>
            <a:ext cx="852948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One Packet can carry between 15 and 500 audio samples at 24bit/48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transmission time is between 0.27 and 5.85 sample periods for a 100MBit/s network at 48kH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y can be used to trans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one sample of multiple chan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multiple samples of one 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 combination ther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73320" y="3759120"/>
          <a:ext cx="6287760" cy="1792080"/>
        </p:xfrm>
        <a:graphic>
          <a:graphicData uri="http://schemas.openxmlformats.org/drawingml/2006/table">
            <a:tbl>
              <a:tblPr/>
              <a:tblGrid>
                <a:gridCol w="2821680"/>
                <a:gridCol w="3466080"/>
              </a:tblGrid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pack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Pack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overh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overh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77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latency (about 6 samples for max. siz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Assumed Packet structures of CobraNet and Ether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58640" y="16138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37920" y="16138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820440" y="161244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000080" y="161244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1179360" y="161244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360440" y="161244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1539720" y="161244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1719000" y="161244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1890720" y="161244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2070000" y="161244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2251080" y="161244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2430360" y="161244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2609640" y="161244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2790720" y="161244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2970000" y="161244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3149640" y="161388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3328920" y="16156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3508200" y="16156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3689280" y="16156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3868560" y="16156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4047840" y="16138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4228920" y="16138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4408200" y="16138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4587840" y="161388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4759200" y="16138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4938480" y="16138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5119560" y="16138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5298840" y="16138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6732360" y="1605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912000" y="160596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7092720" y="1605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7272360" y="160596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7451640" y="1605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7632720" y="160596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7812000" y="1605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7991280" y="1605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53160" y="1685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50120" y="1687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9120" y="1689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20" y="1341360"/>
            <a:ext cx="1443240" cy="16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t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08080" y="1333440"/>
            <a:ext cx="1443240" cy="16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t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57440" y="1335240"/>
            <a:ext cx="1443240" cy="16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t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0360" y="1317600"/>
            <a:ext cx="1443240" cy="16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t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9880" y="1009800"/>
            <a:ext cx="2652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CobraNet 100Mbi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93640" y="5034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772920" y="5034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954000" y="5034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33280" y="5034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1312560" y="5034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493640" y="5034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1673280" y="503352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1854000" y="503352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2025360" y="503352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2205000" y="503352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2385720" y="503352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2565360" y="503352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2744640" y="503352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2925720" y="503352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3105000" y="503352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284280" y="503352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463920" y="503496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3643200" y="5034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3824280" y="503496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5086080" y="503820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265720" y="503820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5446440" y="503820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5626080" y="503820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5805360" y="503820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5986440" y="503820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6165720" y="503820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6345000" y="50367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54400" y="51069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1360" y="5108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511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5280" y="4762440"/>
            <a:ext cx="5967360" cy="16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t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6440" y="4430880"/>
            <a:ext cx="240156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Ethersound ES-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8560" y="3468600"/>
            <a:ext cx="64404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8 channels (1 bundle) per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Multiple samples (ca. 50-100) in one frame and large buffers -&gt; high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Up to four bundles per 100MBit/s cable possible -&gt; 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" y="5375160"/>
            <a:ext cx="4043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64 channels per frame -&gt; low 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One sample in one frame -&gt; low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83880" y="1487520"/>
            <a:ext cx="5320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Bundle</a:t>
            </a:r>
            <a:br>
              <a:rPr sz="1200"/>
            </a:b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014480" y="192852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479160" y="249192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658800" y="249192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841320" y="24904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1020600" y="24904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1199880" y="24904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1380960" y="24904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1560240" y="24904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1739880" y="249048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1911240" y="24904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2090520" y="24904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2271600" y="24904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2450880" y="24904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630520" y="249048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2811240" y="24904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2990880" y="249048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3170160" y="249192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3349440" y="24933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3528720" y="24933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3709800" y="24933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3889080" y="24933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4068720" y="249192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4249440" y="249192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4429080" y="249192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4608360" y="249192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4779720" y="249192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4959360" y="249192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5140080" y="249192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5319720" y="249192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6753240" y="248400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6932520" y="248400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7113600" y="248400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7292880" y="248400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7472160" y="248400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7653240" y="248400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7832520" y="248400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8012160" y="248400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73680" y="25639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0640" y="256536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9640" y="256716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104760" y="2364840"/>
            <a:ext cx="531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Bundle</a:t>
            </a:r>
            <a:br>
              <a:rPr sz="1200"/>
            </a:b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490320" y="307440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669960" y="307440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852480" y="307296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1031760" y="3072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1211040" y="3072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1392120" y="3072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1571400" y="3072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1751040" y="307296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1922400" y="3072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2101680" y="3072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2282760" y="3072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2462040" y="3072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2641320" y="3072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2822400" y="3072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3001680" y="307296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181320" y="307440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3360600" y="307620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3539880" y="307620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3720960" y="307620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3900240" y="307620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4079880" y="307440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4260600" y="307440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4440240" y="307440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4619520" y="307440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4790880" y="307440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4970160" y="307440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5151240" y="307440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5330880" y="307440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6764040" y="30664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6943680" y="306648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7124400" y="30664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7304040" y="306648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7483320" y="30664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7664400" y="306648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7843680" y="30664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8022960" y="30664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84840" y="31464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81800" y="314784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30800" y="314964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115920" y="2947320"/>
            <a:ext cx="531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Bundle</a:t>
            </a:r>
            <a:br>
              <a:rPr sz="1200"/>
            </a:b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015920" y="20732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017720" y="22176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274680"/>
            <a:ext cx="9144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Other networks with market we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9280" y="941400"/>
            <a:ext cx="852948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Optocore 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- 512 ch optical redundant ring, transporting also 100MBit/s data and Video</a:t>
            </a:r>
            <a:br>
              <a:rPr sz="1800"/>
            </a:b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- very popular in Ger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AES50 (SuperMAC) 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- based on 100MBit/s Ethernet 48ch links and proprietary routers</a:t>
            </a:r>
            <a:br>
              <a:rPr sz="1800"/>
            </a:b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- used by MIDAS XL8 but no other prominent integ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Livewire</a:t>
            </a:r>
            <a:br>
              <a:rPr sz="2400"/>
            </a:b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- True IP-Audio Network for Broadcast Applications</a:t>
            </a:r>
            <a:br>
              <a:rPr sz="1800"/>
            </a:b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- Owned by Telos/Axia</a:t>
            </a:r>
            <a:br>
              <a:rPr sz="1800"/>
            </a:b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- Playout from standard PC Ethernet card possible</a:t>
            </a:r>
            <a:br>
              <a:rPr sz="1800"/>
            </a:b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- high channel counts &gt;8ch per node never demonst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mLAN</a:t>
            </a:r>
            <a:br>
              <a:rPr sz="2200"/>
            </a:b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- IEEE-1394 daisy chains for audio and MIDI</a:t>
            </a:r>
            <a:br>
              <a:rPr sz="1800"/>
            </a:b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- Owned by Yamaha</a:t>
            </a:r>
            <a:br>
              <a:rPr sz="1800"/>
            </a:b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- Seems not to get much ground in the pro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05:19:42Z</dcterms:created>
  <dc:creator>RCM</dc:creator>
  <dc:description/>
  <dc:language>en-US</dc:language>
  <cp:lastModifiedBy>Informatik</cp:lastModifiedBy>
  <dcterms:modified xsi:type="dcterms:W3CDTF">2007-09-28T07:55:34Z</dcterms:modified>
  <cp:revision>389</cp:revision>
  <dc:subject/>
  <dc:title>Slide 1</dc:title>
</cp:coreProperties>
</file>