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BF4-D6FC-4B67-A858-EA7FD4FE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CP/IP, CobraNet is transmitted “on top of” Eth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not exclusive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undles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undle carries a maximum of 8 channels of 48kHz, 20 bit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undle Numbers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CobraNet bundles.  They are distinguishable by their bund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0 is special.  It is the empty bu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ast – bundles allow more than one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ast bundles must be used sparingly.  More than four on a single LAN can cause bandwidth utiliz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– Unicast bundles accessible to any single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– Unicast bundles accessible to a specified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a software assigns private bundle numbers to the automatic CobraNet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a can explicitly be set to transmit/receive on any other bundle number with the CobraNet bl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ask, how many bundles can be transported over a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etwork Capacity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717-41A9-419F-96FD-A27EBBE2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872160"/>
            <a:ext cx="6629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0B9-FFBD-4C37-A8DB-D39529C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012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30120" y="387216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B4E-F860-4181-8C36-B358D68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4880" y="152352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6240" y="152352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87216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4880" y="387216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6240" y="3872160"/>
            <a:ext cx="2134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87C-8672-41EF-8323-7EB75029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A84-C03B-4538-89AE-C182E46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ABA-A8B8-4088-817B-63A5426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3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30120" y="1523520"/>
            <a:ext cx="323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0C7-9A25-45CC-BC99-CC5425A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A1E-8D69-4C1D-9B99-560C2A8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2F8-52C6-47E0-B460-9C8646D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30120" y="1523520"/>
            <a:ext cx="323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3FA-3A27-4317-8A50-353E4E4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3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3012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30120" y="387216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6C4-30A3-4858-8C99-76BBC6C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30120" y="1523520"/>
            <a:ext cx="3234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872160"/>
            <a:ext cx="6629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B4D-9A17-4E97-898A-B35D5E2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300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8564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1828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1828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1828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335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494D-0F11-4941-8934-2D220B348F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812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best digital protocol for bi-directional audio and data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685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AMP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b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0" y="4114800"/>
            <a:ext cx="914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114800"/>
            <a:ext cx="914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609480"/>
            <a:ext cx="6781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CobraNet beneficials:</a:t>
            </a:r>
            <a:br>
              <a:rPr sz="4000"/>
            </a:br>
            <a:br>
              <a:rPr sz="40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...and we can look further into the future of Paging System solutions via CobraNet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23623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wor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8862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newest addition to the AudiaFLEX family of produ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685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AMP SYSTEMS 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Concept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903600" y="1447920"/>
            <a:ext cx="652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amlessly integrate a sophist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ed paging solution into the exi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diaFLEX CM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aging solution shall be ab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with any existing Cob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d AudiaF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tworked Paging Station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4343400" cy="264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7560" y="4419720"/>
            <a:ext cx="641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worked Paging Statio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 of a base station with a fix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phone, LCD display, and us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ation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72480" y="259092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CD displ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8280" y="2971800"/>
            <a:ext cx="236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ton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on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ging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twork ind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6320" y="167652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CobraNet and Control over 1 po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3560" y="205740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station will plug into the CobraNet network on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720" y="4343400"/>
            <a:ext cx="632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tary encoder fo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to Talk/Latch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onal 4 digit lockout for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power supply and PoE cap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PS in Audia Software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" y="1447920"/>
            <a:ext cx="59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worked Paging Station has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n unique input block withi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200" y="5105520"/>
            <a:ext cx="58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aging Station block can hav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32 “button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1920" y="5867280"/>
            <a:ext cx="61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utton is what the user will select via the Netwo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ging Station’s interface to page into a set of 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3724200" cy="1895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11714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PS in Audia Software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706320" y="1295280"/>
            <a:ext cx="64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number of Networked Pag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correspond to a particular Pa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on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38200" y="3276720"/>
            <a:ext cx="69552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38200" y="5257800"/>
            <a:ext cx="69552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38200" y="4267080"/>
            <a:ext cx="69552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9640" y="2362320"/>
            <a:ext cx="622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Network Paging Stations assigned to the partic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PS block will all receive identical but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886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876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867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4876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267080" y="4495680"/>
            <a:ext cx="11718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PS in Audia Software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805680" y="1447920"/>
            <a:ext cx="65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PS-1 blocks tie to another new bloc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ge Zon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80960" y="2362320"/>
            <a:ext cx="4257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PS in Audia Software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562040" cy="75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8200" y="1447920"/>
            <a:ext cx="54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ge Zone Router is whe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ing Station block’s butt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ssigned to zone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257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PS in Audia Software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the NPS-1 input block and the Page Zone Router also provide some logic ind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942840" cy="676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1438200" cy="64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609480" y="342864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2520" y="5334120"/>
            <a:ext cx="26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braNet Network Ind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143000" y="3428640"/>
            <a:ext cx="533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5160" y="5029200"/>
            <a:ext cx="237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phone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2680" y="4724280"/>
            <a:ext cx="285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y Button has been pr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76520" y="3429000"/>
            <a:ext cx="12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17160" y="4419720"/>
            <a:ext cx="33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specific Button has been pr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904760" y="3428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987560" y="3435120"/>
            <a:ext cx="146160" cy="10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082600" y="3435120"/>
            <a:ext cx="50760" cy="10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33720" y="3435120"/>
            <a:ext cx="38160" cy="10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7120" y="4114800"/>
            <a:ext cx="37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specific zone is currently being p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29000" y="342864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5053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505320" y="3428640"/>
            <a:ext cx="101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3428640"/>
            <a:ext cx="183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yramid of Networked Audio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6934320" cy="3962520"/>
          </a:xfrm>
          <a:prstGeom prst="flowChartExtra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6920" y="53611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 e d u n d a n t    N e t w o r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000" y="4038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&amp; Surveillan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68400" y="464832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Audio Platform (D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4200" y="3672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817720"/>
            <a:ext cx="23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/ Aud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19720" y="289512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9240" y="2209680"/>
            <a:ext cx="47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 detectors / Sensing mic’s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, DVD, MP3 Players, mics, instruments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00600" y="358092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257800" y="4266720"/>
            <a:ext cx="5335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68240" y="3048120"/>
            <a:ext cx="28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udia RCB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controls vi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5920" y="40528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Vinci/Au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ftware 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920" y="46483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UDIA Flex CM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876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8600" y="52261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/ CAT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O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77120" y="5562360"/>
            <a:ext cx="5331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9720" y="601992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obraNet </a:t>
            </a: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(fixed latency 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0988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4168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0528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ystem Features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one AudiaFLEX, you can have up to 16 paging statio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one time through reserved CobraNet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are CobraNet channels set aside from what is available in Audia that can only then be used for paging s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ge Zone Router block can receive up to 32 NPS-1 blocks, routing up to 28 different zones in one AudiaFLE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ging in action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user selects a button or multiple buttons, the LCD display will show if the zones within that button are available to be paged i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Paging Stations attempt to page into a zone that they both have the same priority to. The first station to start wi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ing Stations that have a higher priority can override stations with less prio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it will be done with Networked Paging St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spital Paging System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48006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079800" cy="2395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spital Paging System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371600"/>
            <a:ext cx="6629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ultiple stations can be assigned to the same block we are reducing programming time, and overall DS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6668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3733920"/>
            <a:ext cx="10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81952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406440" cy="533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066680" y="342900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2971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09480" y="3657600"/>
            <a:ext cx="406440" cy="533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1066680" y="4038480"/>
            <a:ext cx="406440" cy="533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09480" y="42670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82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962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4267080"/>
            <a:ext cx="10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572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600200" y="31240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382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3429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429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1066680" y="4724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441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85800" y="502920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47920" y="5029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3341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4800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1143000" y="5638680"/>
            <a:ext cx="40644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1600200" y="54100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5943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715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800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456912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it would look with Networked Paging Stations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2362320"/>
            <a:ext cx="5486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best digital protocol for bi-directional audio and data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believe it totally fulfills our need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d Gigabit CobraNet is coming…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685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AMP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b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304812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ndant networks allow for automa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lf healing” systems and can be monitored via severa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braNet (CM-1)is redundant to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685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AMP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b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braNet Basic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es “over” Ether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ported on bund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network transmission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ion of audio chann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braNet Bundl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undle may contain up to 8 channels of 48kHz, 20 bit a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t 4 bund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4 bund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of 64 audio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undle Numbe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-2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multic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56-6527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unic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5280-6553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unic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3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7467480" cy="472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228600"/>
            <a:ext cx="340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Redundant CobrNet network for Communication, Audio, Alarm and EV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89240" y="4379760"/>
            <a:ext cx="305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572000"/>
            <a:ext cx="1066680" cy="1310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dio Network devices with Cobr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962520"/>
            <a:ext cx="914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962520"/>
            <a:ext cx="914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048120"/>
            <a:ext cx="1067040" cy="1310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dio Network devices with Cobr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51055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y switching receipients bundle numbers (not TCP/IP or MAC adress), a lot of different zones can be adressed easily...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ery nice and easy to program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4114800"/>
            <a:ext cx="914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4114800"/>
            <a:ext cx="914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28600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CobraNet beneficials:</a:t>
            </a:r>
            <a:br>
              <a:rPr sz="4000"/>
            </a:br>
            <a:br>
              <a:rPr sz="40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 can talk to other manufacturers products via the same protocol !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 can share DSP power via CobraNet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 can define the max. no. of channels, by creating a network with enough bandwith !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ax. no. of CobraNet links is kind of unlimited in a large system !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 will go further and use the data channel in CobraNet for bidirectional controls !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 can use it for sending/receiving audio signals within a network, which we could not do before (i.e. AEC via CobraNe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(Geographical solutions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5486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3:53:28Z</dcterms:created>
  <dc:creator>Benton Wong</dc:creator>
  <dc:description/>
  <dc:language>en-US</dc:language>
  <cp:lastModifiedBy>Romano Cunsolo</cp:lastModifiedBy>
  <dcterms:modified xsi:type="dcterms:W3CDTF">2007-09-27T15:12:32Z</dcterms:modified>
  <cp:revision>283</cp:revision>
  <dc:subject/>
  <dc:title>No Slide Title</dc:title>
</cp:coreProperties>
</file>